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3C2-05F7-42EA-BCFD-A371E310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C87-56BB-4FEC-830F-06E87FD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274-EC98-49DB-B947-8D84C760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2CB-68F8-4534-9297-AB50BE13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019-D9C5-453A-95D4-1A16C344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08E-8517-4656-8CB8-754E8F1E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5FE-7189-40DC-8FE2-2CE65A9E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994-3FF2-4671-BD9E-5BEFEA5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224-14E7-43EF-9E58-C50AB1C7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996-BC69-4095-A00E-0A8D786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F60-D33C-421A-BB1A-A9A293D9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657-232C-442B-A34C-2D8C6152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7329-D993-49F2-B8DD-35996223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Segoe Script"/>
              </a:rPr>
              <a:t>e.m. 1</a:t>
            </a:r>
            <a:br>
              <a:rPr sz="4800"/>
            </a:br>
            <a:r>
              <a:rPr b="0" lang="it-IT" sz="4800" spc="-1" strike="noStrike">
                <a:solidFill>
                  <a:srgbClr val="000000"/>
                </a:solidFill>
                <a:latin typeface="Segoe Script"/>
              </a:rPr>
              <a:t>La Carica Elett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9056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Script"/>
              </a:rPr>
              <a:t>L’interazione elettrica è una delle interazioni fondamentali della n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I fenomeni elettrici fondamentali dal punto di vista microscop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Elettrizzazione (per strofinio,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ontatto, indu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onduttori e isol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onserv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al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Principio di sovrapposi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forza elettrica e gravit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ostante dielet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in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polar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Concetto di campo elet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Una carica elettrica Q genera un 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campo elettrico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nello spazio cir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Ce ne accorgiamo ponendo una carica di prova q nelle vicinanze di Q. Si osserva che su q agisce una forza 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dovuta alla presenza di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Definizione di campo elet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Definiamo il campo elettric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E = F/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Ma F è la forza di Coulomb, quindi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egoe Print"/>
              </a:rPr>
              <a:t>per una carica puntiforme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F = Q/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Segoe Print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Il campo elettrico E 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non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dipende da q ma solo da Q e da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E’ un campo vet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Unità di mis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Segoe Print"/>
              </a:rPr>
              <a:t>L’unità di misura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 del campo elettrico nel SI è il Newton/Coulomb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N/C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Altra unità di misura utilizz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Volt/Metro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V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Print"/>
              </a:rPr>
              <a:t>ma ne esistono alt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Forza agente su una carica q  immersa in un campo elettrico 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generato da una carica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Su una carica q immersa nel campo elettrico generato da una carica Q, agisce una for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F = q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Rappresentazione grafica del campo elett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Il campo elettrico generato da una carica Q può essere rappresentato mediante le Linee di Campo (dette anche Linee di Forz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Proprietà delle Linee di Ca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C.E.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e linee di campo sono tang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hanno la direzione del 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la loro densità è proporzionale all’intensità del ca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398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ini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egoe Print"/>
              </a:rPr>
              <a:t>La carica elett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Segoe Print"/>
              </a:rPr>
              <a:t>Sappiamo che alcune particelle elementari sono dotate di </a:t>
            </a:r>
            <a:r>
              <a:rPr b="1" lang="en-US" sz="4000" spc="-1" strike="noStrike">
                <a:solidFill>
                  <a:srgbClr val="000000"/>
                </a:solidFill>
                <a:latin typeface="Segoe Print"/>
              </a:rPr>
              <a:t>carica elettrica</a:t>
            </a:r>
            <a:r>
              <a:rPr b="1" lang="en-US" sz="36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(elettroni, protoni, mesoni, pioni ec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egoe Print"/>
              </a:rPr>
              <a:t>la carica è una proprietà intrinseca della ma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Unità di mis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Segoe Print"/>
              </a:rPr>
              <a:t>L’</a:t>
            </a:r>
            <a:r>
              <a:rPr b="1" lang="it-IT" sz="3600" spc="-1" strike="noStrike">
                <a:solidFill>
                  <a:srgbClr val="000000"/>
                </a:solidFill>
                <a:latin typeface="Segoe Print"/>
              </a:rPr>
              <a:t>unità di misura</a:t>
            </a:r>
            <a:r>
              <a:rPr b="0" lang="it-IT" sz="3600" spc="-1" strike="noStrike">
                <a:solidFill>
                  <a:srgbClr val="000000"/>
                </a:solidFill>
                <a:latin typeface="Segoe Print"/>
              </a:rPr>
              <a:t> della carica elettrica nel SI è il Coulomb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(unità di misura fissata quando ancora non era nota la struttura atomica della ma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Per conven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la carica di un elettrone è negativa ed è uguale a: 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la carica di un protone è positiva ed è uguale a: +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Segoe Print"/>
              </a:rPr>
              <a:t>!</a:t>
            </a: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 e = 1,6 x 10</a:t>
            </a:r>
            <a:r>
              <a:rPr b="0" lang="it-IT" sz="2800" spc="-1" strike="noStrike" baseline="30000">
                <a:solidFill>
                  <a:srgbClr val="000000"/>
                </a:solidFill>
                <a:latin typeface="Segoe Print"/>
              </a:rPr>
              <a:t>-19</a:t>
            </a: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Interazione fra car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Cariche dello stesso segn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Cariche di segno divers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egoe Print"/>
              </a:rPr>
              <a:t>Principio di Conservazione della Cari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vale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Principio di Conservazione della Ca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In un sistema chiuso la carica totale si mantiene 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Print"/>
              </a:rPr>
              <a:t>Mantiene la sua validità nelle reazioni nucle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Quant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Un atomo in condizioni di equilibrio* è elettricamente neutro, cioè ha </a:t>
            </a:r>
            <a:r>
              <a:rPr b="1" lang="it-IT" sz="2800" spc="-1" strike="noStrike">
                <a:solidFill>
                  <a:srgbClr val="000000"/>
                </a:solidFill>
                <a:latin typeface="Segoe Print"/>
              </a:rPr>
              <a:t>carica totale uguale a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egoe Print"/>
              </a:rPr>
              <a:t>Perché nell’atomo:</a:t>
            </a: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Segoe Print"/>
              </a:rPr>
              <a:t>numero di protoni = numero di elettr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egoe Print"/>
              </a:rPr>
              <a:t>quin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egoe Print"/>
              </a:rPr>
              <a:t>carica totale = carica protoni + carica elettron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egoe Print"/>
              </a:rPr>
              <a:t>*o una molecola non ionizz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di consegu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un atomo che </a:t>
            </a:r>
            <a:r>
              <a:rPr b="1" lang="en-US" sz="3600" spc="-1" strike="noStrike">
                <a:solidFill>
                  <a:srgbClr val="000000"/>
                </a:solidFill>
                <a:latin typeface="Segoe Print"/>
              </a:rPr>
              <a:t>perde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 un elettrone presenta una carica </a:t>
            </a:r>
            <a:r>
              <a:rPr b="1" lang="en-US" sz="3600" spc="-1" strike="noStrike">
                <a:solidFill>
                  <a:srgbClr val="000000"/>
                </a:solidFill>
                <a:latin typeface="Segoe Print"/>
              </a:rPr>
              <a:t>pos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un atomo che </a:t>
            </a:r>
            <a:r>
              <a:rPr b="1" lang="en-US" sz="3600" spc="-1" strike="noStrike">
                <a:solidFill>
                  <a:srgbClr val="000000"/>
                </a:solidFill>
                <a:latin typeface="Segoe Print"/>
              </a:rPr>
              <a:t>acquista</a:t>
            </a:r>
            <a:r>
              <a:rPr b="0" lang="en-US" sz="3600" spc="-1" strike="noStrike">
                <a:solidFill>
                  <a:srgbClr val="000000"/>
                </a:solidFill>
                <a:latin typeface="Segoe Print"/>
              </a:rPr>
              <a:t> un elettrone presenta una carica </a:t>
            </a:r>
            <a:r>
              <a:rPr b="1" lang="en-US" sz="3600" spc="-1" strike="noStrike">
                <a:solidFill>
                  <a:srgbClr val="000000"/>
                </a:solidFill>
                <a:latin typeface="Segoe Print"/>
              </a:rPr>
              <a:t>neg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Tale caratteristica </a:t>
            </a:r>
            <a:r>
              <a:rPr b="1" lang="en-US" sz="3200" spc="-1" strike="noStrike">
                <a:solidFill>
                  <a:srgbClr val="000000"/>
                </a:solidFill>
                <a:latin typeface="Segoe Print"/>
              </a:rPr>
              <a:t>si riflette a livello macroscopico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, così alcuni corp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egoe Print"/>
              </a:rPr>
              <a:t>presentano una carica elettrica</a:t>
            </a:r>
            <a:r>
              <a:rPr b="0" lang="en-US" sz="3200" spc="-1" strike="noStrike">
                <a:solidFill>
                  <a:srgbClr val="000000"/>
                </a:solidFill>
                <a:latin typeface="Segoe Print"/>
              </a:rPr>
              <a:t> se i loro atomi hanno perso o acquistato elettr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La carica è Quantizz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La conseguenza di tutto ciò è che la carica di qualsiasi corpo è </a:t>
            </a:r>
            <a:r>
              <a:rPr b="1" lang="en-US" sz="2800" spc="-1" strike="noStrike">
                <a:solidFill>
                  <a:srgbClr val="000000"/>
                </a:solidFill>
                <a:latin typeface="Segoe Print"/>
              </a:rPr>
              <a:t>quantizzata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 ovvero è sempre multiplo della carica dell’elett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Q 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egoe Print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 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egoe Print"/>
              </a:rPr>
              <a:t>portatori di carica: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 Nei solidi sono gli  elettroni </a:t>
            </a:r>
            <a:r>
              <a:rPr b="0" lang="en-US" sz="2400" spc="-1" strike="noStrike">
                <a:solidFill>
                  <a:srgbClr val="000000"/>
                </a:solidFill>
                <a:latin typeface="Segoe Print"/>
              </a:rPr>
              <a:t>(i protoni sono circa 2000 volte più pesanti degli elettroni e stabilmente legati).</a:t>
            </a:r>
            <a:r>
              <a:rPr b="0" lang="en-US" sz="2800" spc="-1" strike="noStrike">
                <a:solidFill>
                  <a:srgbClr val="000000"/>
                </a:solidFill>
                <a:latin typeface="Segoe Print"/>
              </a:rPr>
              <a:t> Nei fluidi invece i portatori di carica sono costituiti da ioni </a:t>
            </a:r>
            <a:r>
              <a:rPr b="0" lang="en-US" sz="2400" spc="-1" strike="noStrike">
                <a:solidFill>
                  <a:srgbClr val="000000"/>
                </a:solidFill>
                <a:latin typeface="Segoe Print"/>
              </a:rPr>
              <a:t>(ovvero da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Print"/>
              </a:rPr>
              <a:t>Legge di Coul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Le cariche interagiscono mediante la </a:t>
            </a:r>
            <a:r>
              <a:rPr b="1" lang="it-IT" sz="3200" spc="-1" strike="noStrike">
                <a:solidFill>
                  <a:srgbClr val="000000"/>
                </a:solidFill>
                <a:latin typeface="Segoe Print"/>
              </a:rPr>
              <a:t>legge di Coul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Tra due cariche puntiformi 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egoe Print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 e 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egoe Prin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 ferme e poste a distanza r agisce una for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egoe Print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 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egoe Print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F = k 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Segoe Print"/>
              </a:rPr>
              <a:t>r</a:t>
            </a:r>
            <a:r>
              <a:rPr b="0" lang="it-IT" sz="3200" spc="-1" strike="noStrike" baseline="30000">
                <a:solidFill>
                  <a:srgbClr val="000000"/>
                </a:solidFill>
                <a:latin typeface="Segoe Prin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4:52:58Z</dcterms:created>
  <dc:creator>ijk</dc:creator>
  <dc:description/>
  <dc:language>en-US</dc:language>
  <cp:lastModifiedBy>ijkt</cp:lastModifiedBy>
  <dcterms:modified xsi:type="dcterms:W3CDTF">2013-09-20T14:30:35Z</dcterms:modified>
  <cp:revision>17</cp:revision>
  <dc:subject/>
  <dc:title>Diapositiva 1</dc:title>
</cp:coreProperties>
</file>