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3D519-B249-4FEE-B17F-A979A5E44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E7256-6BDA-4599-8836-D674F1ED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30EF9-8921-478A-86EB-F5CC74B6C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91A05-1609-4553-8A74-100036F7B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D568-1DE0-4CF3-9963-48D2A3F2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9E2FA-43BF-4F6D-8EEE-48A0B42A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1EABE-15EE-41DE-BA44-09EB26E15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F18F-A180-4CAC-A7C7-00C4EBA3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D1123-C13F-48F0-9209-6660368D9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F6F9-2B35-4B4A-AD3E-066C5B1F2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D294-D35D-48E1-A9D6-9AFAABF2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050B-48F9-4D26-B568-B992BBC2E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61C1-DA1D-4BCF-BC66-8D0ED593F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ve introduzione storica allo studio dei fenomeni elettric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oluzione storica delle tappe che condussero ad enunciare il concetto di carica elettrica e di campo elettrico, la legge di conservazione della carica e la legge di Coulom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28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 grec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fatto che l’ambra (elektron) strofinata attragga oggetti leggeri era noto già dagli antichi</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ttavia uno studio sistematico dei fenomeni elettrici è iniziato in tempi molto più recenti, solo dopo il 1600. All’epoca l’unico metodo di produzione di effetti elettrici era ancora lo strofin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2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Gray scopre che i metalli, messi a contatto con corpi elettrizzati per strofinio, acquistavano proprietà simili. Stabilì anche che i metalli conducono l’elettricità</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30</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Du Fay scopre che l’attrazione non è sempre attrattiva ma può essere anche repulsiva (e postulò l’esistenza di due fluidi…). Stabilì anche che due corpi aventi cariche dello stesso tipo si respingono, mentre corpi con cariche opposte si attraggo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47</a:t>
            </a:r>
            <a:endParaRPr b="0" lang="en-US" sz="44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Watson e Franklin scoprono che in ogni processo elettrico si formano sempre uguali quantità di carica positiva e negativa (es: strofinando del vetro con un pezzo di set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pprofondimenti:</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teoria a un fluido e la teoria a due fluidi</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smissione a distanza delle forze elett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85 – Legge di Coulomb</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rimo a concepire che le forze elettriche potessero trasmettersi a distanza fu Epino nel 1759. Poi contribuirono allo studio  Priestley (1767), Cavendish (1771) e infine Coulomb che per primo diede una prova diretta della correttezza della legge di interazione elettrostatica misurando effettivamente la for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campo elettrico</a:t>
            </a:r>
            <a:endParaRPr b="0" lang="en-US" sz="4400" spc="-1" strike="noStrike">
              <a:solidFill>
                <a:srgbClr val="000000"/>
              </a:solidFill>
              <a:latin typeface="Arial"/>
            </a:endParaRPr>
          </a:p>
        </p:txBody>
      </p:sp>
      <p:sp>
        <p:nvSpPr>
          <p:cNvPr id="54" name="PlaceHolder 2"/>
          <p:cNvSpPr>
            <a:spLocks noGrp="1"/>
          </p:cNvSpPr>
          <p:nvPr>
            <p:ph/>
          </p:nvPr>
        </p:nvSpPr>
        <p:spPr>
          <a:xfrm>
            <a:off x="468360" y="1628640"/>
            <a:ext cx="8291520" cy="4392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campo elettrico generato da una carica Q esprime quantitativamente l’azione elettrica della carica Q nello spazio circostante. </a:t>
            </a:r>
            <a:endParaRPr b="0" lang="en-US" sz="32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una grandezza vettoriale. Il vettore campo (calcolato) in un punto P ha la direzione della forza esercitata da Q su una carica di prova q posta in P. Il suo modulo dipende solo dalle proprietà della carica Q.</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55" name=""/>
          <p:cNvSpPr/>
          <p:nvPr/>
        </p:nvSpPr>
        <p:spPr>
          <a:xfrm>
            <a:off x="254520" y="1890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fondim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zione elettrostatic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le fenomeno consiste nella proprietà dei corpi carichi di attrarre non solo altri corpi pure dotati di carica, ma anche corpi elettricamente neutri e in particolare sostanze conduttrici</a:t>
            </a:r>
            <a:endParaRPr b="0" lang="en-US" sz="4000" spc="-1" strike="noStrike">
              <a:solidFill>
                <a:srgbClr val="000000"/>
              </a:solidFill>
              <a:latin typeface="Arial"/>
            </a:endParaRPr>
          </a:p>
        </p:txBody>
      </p:sp>
      <p:sp>
        <p:nvSpPr>
          <p:cNvPr id="58" name=""/>
          <p:cNvSpPr/>
          <p:nvPr/>
        </p:nvSpPr>
        <p:spPr>
          <a:xfrm>
            <a:off x="254520" y="1890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fondim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uzione elettrostatica</a:t>
            </a:r>
            <a:endParaRPr b="0" lang="en-US" sz="4000" spc="-1" strike="noStrike">
              <a:solidFill>
                <a:srgbClr val="000000"/>
              </a:solidFill>
              <a:latin typeface="Arial"/>
            </a:endParaRPr>
          </a:p>
        </p:txBody>
      </p:sp>
      <p:sp>
        <p:nvSpPr>
          <p:cNvPr id="60" name="PlaceHolder 2"/>
          <p:cNvSpPr>
            <a:spLocks noGrp="1"/>
          </p:cNvSpPr>
          <p:nvPr>
            <p:ph/>
          </p:nvPr>
        </p:nvSpPr>
        <p:spPr>
          <a:xfrm>
            <a:off x="457200" y="2923920"/>
            <a:ext cx="8291520" cy="338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a carica di segno opposto è indotta sulla parte del corpo più vicina al corpo carico, mentre la carica dello stesso segno si manifesta sulla parte più lontana. E’ chiaro quindi che, poiché le forze decrescono all’aumentare della distanza, l’azione attrattiva deve prevalere su quella repulsiva</a:t>
            </a:r>
            <a:endParaRPr b="0" lang="en-US" sz="3200" spc="-1" strike="noStrike">
              <a:solidFill>
                <a:srgbClr val="000000"/>
              </a:solidFill>
              <a:latin typeface="Arial"/>
            </a:endParaRPr>
          </a:p>
        </p:txBody>
      </p:sp>
      <p:pic>
        <p:nvPicPr>
          <p:cNvPr id="61" name="" descr=""/>
          <p:cNvPicPr/>
          <p:nvPr/>
        </p:nvPicPr>
        <p:blipFill>
          <a:blip r:embed="rId1"/>
          <a:stretch/>
        </p:blipFill>
        <p:spPr>
          <a:xfrm>
            <a:off x="1979640" y="981000"/>
            <a:ext cx="5400720" cy="191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09:44:49Z</dcterms:created>
  <dc:creator>ijkt</dc:creator>
  <dc:description/>
  <dc:language>en-US</dc:language>
  <cp:lastModifiedBy>ijkt</cp:lastModifiedBy>
  <dcterms:modified xsi:type="dcterms:W3CDTF">2014-10-05T08:31:24Z</dcterms:modified>
  <cp:revision>10</cp:revision>
  <dc:subject/>
  <dc:title>Diapositiva 1</dc:title>
</cp:coreProperties>
</file>