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B23-13CB-4D59-A154-2E99982F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C149-4203-439A-BF4B-C4321B23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B17-9167-4CFE-89C6-378879B2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630-1289-4FD2-913A-73BCB143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D29-B181-4EEC-8228-3EEDC9C8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82B-D425-4E34-A516-D73FC06B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C623-CC63-4682-A156-7BCEC059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22A-1478-4D8A-BB60-9ECE6CE2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E93-9BD7-4871-B4B2-59173110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A6F-4351-4865-9E5D-198C9E4C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3FC-DEAE-485E-AB91-019CF9C6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6EB-BAEE-491D-B4C9-8B472FAF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18D8-9DBB-47FE-80CF-D05857D2C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Teorema del Flu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3213000"/>
            <a:ext cx="878544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o di Ga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Campo elettrico generato da distribuzioni discrete e continue di car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5229360"/>
            <a:ext cx="83534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Segoe Print"/>
              </a:rPr>
              <a:t>è ‘come se’ il campo fosse generato da una carica puntiforme avente carica = a</a:t>
            </a: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 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egoe Print"/>
              </a:rPr>
              <a:t>t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87640" y="3265560"/>
                <a:ext cx="259236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79280" y="115920"/>
            <a:ext cx="8785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Campo generato da una sfera isolante ca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341360"/>
            <a:ext cx="8785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Print"/>
              </a:rPr>
              <a:t>superficie gaussiana:</a:t>
            </a: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sfera il cui centro coincide col centro della sfera. Abbiam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egoe Print"/>
              </a:rPr>
              <a:t>2 casi</a:t>
            </a: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goe Print"/>
              </a:rPr>
              <a:t>Caso: r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Segoe Print"/>
              </a:rPr>
              <a:t>&gt;</a:t>
            </a:r>
            <a:r>
              <a:rPr b="1" lang="en-US" sz="3200" spc="-1" strike="noStrike">
                <a:solidFill>
                  <a:srgbClr val="000000"/>
                </a:solidFill>
                <a:latin typeface="Segoe Print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Secondo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goe Print"/>
              </a:rPr>
              <a:t>Caso: r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Segoe Print"/>
              </a:rPr>
              <a:t>&lt;</a:t>
            </a:r>
            <a:r>
              <a:rPr b="1" lang="en-US" sz="3200" spc="-1" strike="noStrike">
                <a:solidFill>
                  <a:srgbClr val="000000"/>
                </a:solidFill>
                <a:latin typeface="Segoe Print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132000" y="2492280"/>
                <a:ext cx="2197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908000" y="422100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Formulazioni equival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227640" y="4653000"/>
                <a:ext cx="19447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492360" y="4654440"/>
                <a:ext cx="1656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39640" y="4724280"/>
                <a:ext cx="20178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Campo generato da una sfera conduttrice ca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843280" y="3338640"/>
                <a:ext cx="259236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324000" y="4869000"/>
            <a:ext cx="8229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Caso: r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Segoe Print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E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292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goe Print"/>
              </a:rPr>
              <a:t>superficie gaussiana: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 sfera il cui centro coincide col centro della sfer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Caso: 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Segoe Print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Fine</a:t>
            </a:r>
            <a:r>
              <a:rPr b="0" lang="en-US" sz="2400" spc="-1" strike="noStrike">
                <a:solidFill>
                  <a:srgbClr val="000000"/>
                </a:solidFill>
                <a:latin typeface="Segoe Prin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Il teor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Il flusso del campo elettrico attraverso una superficie </a:t>
            </a: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(chiusa)</a:t>
            </a: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 è direttamente proporzionale alla carica contenuta all’interno della superfi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Teorema di Gauss o del flu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</a:t>
            </a:r>
            <a:r>
              <a:rPr b="0" lang="en-US" sz="8800" spc="-1" strike="noStrike">
                <a:solidFill>
                  <a:srgbClr val="000000"/>
                </a:solidFill>
                <a:latin typeface="Segoe Print"/>
              </a:rPr>
              <a:t>=</a:t>
            </a:r>
            <a:r>
              <a:rPr b="0" lang="en-US" sz="88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9600" spc="-1" strike="noStrike" u="sng" baseline="2000">
                <a:solidFill>
                  <a:srgbClr val="000000"/>
                </a:solidFill>
                <a:uFillTx/>
                <a:latin typeface="Segoe Print"/>
              </a:rPr>
              <a:t>Q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88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88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88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88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800" spc="-1" strike="noStrike" baseline="-6000">
                <a:solidFill>
                  <a:srgbClr val="000000"/>
                </a:solidFill>
                <a:latin typeface="Segoe Print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3860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egoe Print"/>
              </a:rPr>
              <a:t>La superficie gaussi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detta superficie gaussiana, è una superficie </a:t>
            </a:r>
            <a:r>
              <a:rPr b="1" lang="en-US" sz="4800" spc="-1" strike="noStrike">
                <a:solidFill>
                  <a:srgbClr val="000000"/>
                </a:solidFill>
                <a:latin typeface="Segoe Print"/>
              </a:rPr>
              <a:t>qualsiasi</a:t>
            </a: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 che contiene la ca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osserv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89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andamento dei campi radial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egoe Print"/>
              </a:rPr>
              <a:t>Se la carica si trova all’esterno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: flusso nu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egoe Print"/>
              </a:rPr>
              <a:t>Se le cariche sono all’interno si può individuare il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 centro del C.E.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Il teorema di Gauss può essere utilizzato per determinare il campo d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:: distribuzioni di carica discrete </a:t>
            </a: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(formate da una o più cariche puntiformi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:: distribuzioni di carica continue uniformi </a:t>
            </a: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(lineari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, piane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, sferiche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Campo generato da una carica puntiforme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407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e da insieme discreto di car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59000" y="4581360"/>
                <a:ext cx="60926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332000" y="2492280"/>
                <a:ext cx="6146640" cy="16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250920" y="1628640"/>
            <a:ext cx="8642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Print"/>
              </a:rPr>
              <a:t>superficie gaussiana:</a:t>
            </a: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 sfera il cui centro coincide con l’origine del ca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630864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Print"/>
              </a:rPr>
              <a:t>! Q è la carica contenut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egoe Print"/>
              </a:rPr>
              <a:t>all’interno</a:t>
            </a:r>
            <a:r>
              <a:rPr b="0" lang="en-US" sz="2400" spc="-1" strike="noStrike">
                <a:solidFill>
                  <a:srgbClr val="000000"/>
                </a:solidFill>
                <a:latin typeface="Segoe Print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Campo generato da 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una</a:t>
            </a: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 distribuzione lineare 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di</a:t>
            </a: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 ca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goe Print"/>
              </a:rPr>
              <a:t>superficie gaussiana:</a:t>
            </a: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cilindro di lunghezza h e raggio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835280" y="3500280"/>
                <a:ext cx="4465440" cy="27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Campo generato da 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una</a:t>
            </a: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 distribuzione piana 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di</a:t>
            </a: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 ca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goe Print"/>
              </a:rPr>
              <a:t>superficie gaussiana:</a:t>
            </a: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cilindro di altezza 2r e area di ba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132000" y="3589200"/>
                <a:ext cx="2340000" cy="17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4:05:14Z</dcterms:created>
  <dc:creator/>
  <dc:description/>
  <dc:language>en-US</dc:language>
  <cp:lastModifiedBy/>
  <dcterms:modified xsi:type="dcterms:W3CDTF">2013-10-25T14:49:33Z</dcterms:modified>
  <cp:revision>23</cp:revision>
  <dc:subject/>
  <dc:title>Teorema del Flusso</dc:title>
</cp:coreProperties>
</file>